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93A-F773-43EF-8DB1-10F338D9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45B-34C7-4FAF-B49B-E0A1CC08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DED-6E9D-4ED5-B0B9-A7A00DA1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6DF-8C8E-4441-8AFB-3D440E13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C3D-E1E3-4BB8-B388-6DA0BFDC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5F1-ABAB-486F-B561-5E63F375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570-AA40-4431-A44A-B17A009C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802-EA0F-4214-970A-446842DA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3E3-B8D0-42F6-A87D-8BB06E98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B03-A8ED-4811-8F09-97EA36E9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B8A-7C26-4AE7-9C98-8283660E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D87-8601-44D6-B4F3-0D4AF1FC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B3D2-DFC9-4E93-85C5-9919179F2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9:08:25Z</dcterms:created>
  <dc:creator>INVES-S6600A</dc:creator>
  <dc:description/>
  <dc:language>en-US</dc:language>
  <cp:lastModifiedBy>INVES-S6600A</cp:lastModifiedBy>
  <dcterms:modified xsi:type="dcterms:W3CDTF">2010-11-17T19:08:59Z</dcterms:modified>
  <cp:revision>1</cp:revision>
  <dc:subject/>
  <dc:title>Diapositiva 1</dc:title>
</cp:coreProperties>
</file>